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24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5.png" ContentType="image/png"/>
  <Override PartName="/ppt/media/image2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C0F4-BDDB-4CA0-9F35-8EF04EBF16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279A-EBF3-43ED-8E95-4D8AACD8D6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59E2-112A-4461-A254-2723BD612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55C6-A74A-4AD8-9A28-22149D63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0057-F09D-4057-9B2C-7325ACBA3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E3BF-84F7-452E-8543-79E71B399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689D-7C59-46B8-8734-49F78500E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D5E7-421A-4F31-8D20-94E4ED88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93A8-BD2E-40FA-A63D-DA0BBC72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9E14-4BE1-4607-A915-1ED171F9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FCB7-62FA-4A0F-B99F-4942FF85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28BF-5AC9-4B84-B682-E0FC8C51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C84D-D975-46C7-AF72-5DCA68E1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0FC5-6431-4799-B0CF-771581B5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577B-F3E4-43AA-9F17-FCB7E94D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34C4-FEB2-4B84-9B05-9E58D43D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3052-247D-4412-923E-20C1F5FA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A697-0B29-4D5F-859B-FD73F4D2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61CF-84E1-4E40-AB05-68A792CFD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B396A-30BC-4634-9E58-55D8F708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5F5EF-C3EB-406D-BE6A-67120A63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72A6C-4A9D-4698-854A-ABA3FE6A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3A139-6E18-4873-AAD1-4B8A2C77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BFC88-21CA-492B-A0C4-DAE103D6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423C-AFFA-41D6-8A94-F3090641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9A64A-227C-4C70-827E-2A841692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2B3B7-566F-4494-9DDF-FF896027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F0DC7-9F5C-402C-8523-DEC15E14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E3DC2-EC57-4AB5-A18B-7166CD2E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27720-1A26-4912-98FD-3BECE736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7F690-7B55-4ABE-A993-77A98C3B5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A99CD-8054-4C24-9790-9EA01274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441F4-F58C-41E1-A21A-0379E6F3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C52BE-2140-4419-8ECC-713EAB90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10385-B338-49FC-A35D-5FCCCBF2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6FFF-9E0A-43C8-A70F-EC2815D6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F6304-2B04-4B95-8294-E34148D1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62743-3DAE-4A62-924B-3A47257D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772DF-EA66-4166-A544-055DD122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48905-6A94-4A65-85A4-CCA6677B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98C9B-29A5-4D2A-847B-7528AA6E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14805-7B03-4905-8C37-F1FB1CE8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72515-C9BA-43DF-B3C6-972167E2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C848B-0B92-41BD-8A6E-5311DF1C5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160CC-6C50-4312-BBBC-6710D076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2827-D45C-4E03-93E4-A5157D28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7193-7352-449D-AEEE-240B637D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3B69-5878-4996-A264-70AEF055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7D65-4877-4990-BDF9-51CC27CA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4966-370B-4199-80EB-B799F7CA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6B4E-5B65-40C5-9232-CC54FF5F0B06}" type="slidenum">
              <a:rPr b="0" lang="en-PH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69BB-D5A6-4644-A84D-FB29FD66D61E}" type="slidenum">
              <a:rPr b="0" lang="en-PH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C22D-675F-4531-9122-3463A612BAEF}" type="slidenum">
              <a:rPr b="0" lang="en-PH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BE93-E4B7-40A8-91E8-37AB228726E3}" type="slidenum">
              <a:rPr b="0" lang="en-PH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C:\Users\NEO\AppData\Local\Microsoft\Windows\Temporary Internet Files\t012912a.bmp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6400800"/>
          </a:xfrm>
          <a:prstGeom prst="rect">
            <a:avLst/>
          </a:prstGeom>
          <a:ln w="0">
            <a:noFill/>
          </a:ln>
        </p:spPr>
      </p:pic>
      <p:pic>
        <p:nvPicPr>
          <p:cNvPr id="203" name="Title 1" descr=""/>
          <p:cNvPicPr/>
          <p:nvPr/>
        </p:nvPicPr>
        <p:blipFill>
          <a:blip r:embed="rId2"/>
          <a:stretch/>
        </p:blipFill>
        <p:spPr>
          <a:xfrm>
            <a:off x="506520" y="689040"/>
            <a:ext cx="8912160" cy="27306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2971440" y="3657240"/>
            <a:ext cx="56451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Constantia"/>
              </a:rPr>
              <a:t>Mr Geoffry A. Gonzag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Constantia"/>
              </a:rPr>
              <a:t>Second Year/Biology Room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Constantia"/>
              </a:rPr>
              <a:t>June 2011- March 2012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 rot="9394800">
            <a:off x="3379320" y="3309480"/>
            <a:ext cx="6083280" cy="26146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ast Ninja"/>
              </a:rPr>
              <a:t>III. Heredity and reproduc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901"/>
              </a:spcBef>
              <a:buClr>
                <a:srgbClr val="009dd9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s and Heredity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901"/>
              </a:spcBef>
              <a:buClr>
                <a:srgbClr val="009dd9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, Proteins and Nucleic Acid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901"/>
              </a:spcBef>
              <a:buClr>
                <a:srgbClr val="009dd9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lication, Transcription and  Translatio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901"/>
              </a:spcBef>
              <a:buClr>
                <a:srgbClr val="009dd9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tosis and Meiosi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901"/>
              </a:spcBef>
              <a:buClr>
                <a:srgbClr val="009dd9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 Cycl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just">
              <a:lnSpc>
                <a:spcPct val="100000"/>
              </a:lnSpc>
              <a:spcBef>
                <a:spcPts val="901"/>
              </a:spcBef>
              <a:buClr>
                <a:srgbClr val="009dd9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1219320" y="5257800"/>
            <a:ext cx="3886200" cy="16002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609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ast Ninja"/>
              </a:rPr>
              <a:t>IV. Development, growth and reprodu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ast Ninj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 Divis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 Differentia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sue, Organ and Organ Syste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tilization and Reproduc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fe Cycles of Organism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x Differentia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2"/>
          <a:stretch/>
        </p:blipFill>
        <p:spPr>
          <a:xfrm>
            <a:off x="6072120" y="4191120"/>
            <a:ext cx="30164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ast Ninja"/>
              </a:rPr>
              <a:t>V. Homeostasis of living system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ast Ninj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od Chain and Food Wed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ter and Energy Pathway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s of  Populatio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5356080" y="4737240"/>
            <a:ext cx="379116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5181480" y="914400"/>
            <a:ext cx="4343400" cy="33242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5335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ast Ninja"/>
              </a:rPr>
              <a:t>VI. The Dynamics of Ecosystem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ast Ninj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Biome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diversity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olutio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nt Technology and Innovation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2"/>
          <a:stretch/>
        </p:blipFill>
        <p:spPr>
          <a:xfrm>
            <a:off x="7162920" y="5029200"/>
            <a:ext cx="16570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le 3" descr=""/>
          <p:cNvPicPr/>
          <p:nvPr/>
        </p:nvPicPr>
        <p:blipFill>
          <a:blip r:embed="rId1"/>
          <a:stretch/>
        </p:blipFill>
        <p:spPr>
          <a:xfrm>
            <a:off x="536400" y="1255680"/>
            <a:ext cx="8461440" cy="24382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igo National Highschoo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Users\NEO\AppData\Local\Microsoft\Windows\Temporary Internet Files\t059292a.bmp"/>
          <p:cNvPicPr/>
          <p:nvPr/>
        </p:nvPicPr>
        <p:blipFill>
          <a:blip r:embed="rId1"/>
          <a:stretch/>
        </p:blipFill>
        <p:spPr>
          <a:xfrm>
            <a:off x="2895480" y="4381560"/>
            <a:ext cx="4286520" cy="2200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C:\Users\NEO\AppData\Local\Microsoft\Windows\Temporary Internet Files\t014602a.bmp"/>
          <p:cNvPicPr/>
          <p:nvPr/>
        </p:nvPicPr>
        <p:blipFill>
          <a:blip r:embed="rId2"/>
          <a:stretch/>
        </p:blipFill>
        <p:spPr>
          <a:xfrm>
            <a:off x="228600" y="4481640"/>
            <a:ext cx="2857680" cy="2358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C:\Users\NEO\AppData\Local\Microsoft\Windows\Temporary Internet Files\t041373a.bmp"/>
          <p:cNvPicPr/>
          <p:nvPr/>
        </p:nvPicPr>
        <p:blipFill>
          <a:blip r:embed="rId3"/>
          <a:stretch/>
        </p:blipFill>
        <p:spPr>
          <a:xfrm>
            <a:off x="6553080" y="3809880"/>
            <a:ext cx="2238480" cy="30052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6196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5000" spc="-1" strike="noStrike">
                <a:solidFill>
                  <a:srgbClr val="04617b"/>
                </a:solidFill>
                <a:latin typeface="Last Ninja"/>
              </a:rPr>
              <a:t>Biolo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Constantia"/>
              </a:rPr>
              <a:t>Branches of Biolog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Constantia"/>
              </a:rPr>
              <a:t>Scientis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Constantia"/>
              </a:rPr>
              <a:t>Scientific Innovations and Applicatio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Constantia"/>
              </a:rPr>
              <a:t>Parts and Function of Cells, Organs and System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Constantia"/>
              </a:rPr>
              <a:t>Experime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F:\world-math-day.jpg"/>
          <p:cNvPicPr/>
          <p:nvPr/>
        </p:nvPicPr>
        <p:blipFill>
          <a:blip r:embed="rId1"/>
          <a:stretch/>
        </p:blipFill>
        <p:spPr>
          <a:xfrm>
            <a:off x="4419720" y="1371600"/>
            <a:ext cx="4572000" cy="4603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F:\f50c0.gif"/>
          <p:cNvPicPr/>
          <p:nvPr/>
        </p:nvPicPr>
        <p:blipFill>
          <a:blip r:embed="rId2"/>
          <a:stretch/>
        </p:blipFill>
        <p:spPr>
          <a:xfrm>
            <a:off x="7520040" y="838080"/>
            <a:ext cx="1606320" cy="14558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5000" spc="-1" strike="noStrike">
                <a:solidFill>
                  <a:srgbClr val="04617b"/>
                </a:solidFill>
                <a:latin typeface="Last Ninja"/>
              </a:rPr>
              <a:t>	</a:t>
            </a:r>
            <a:r>
              <a:rPr b="0" lang="en-PH" sz="5000" spc="-1" strike="noStrike">
                <a:solidFill>
                  <a:srgbClr val="04617b"/>
                </a:solidFill>
                <a:latin typeface="Last Ninja"/>
              </a:rPr>
              <a:t>MathemATIC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Constantia"/>
              </a:rPr>
              <a:t>Se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Constantia"/>
              </a:rPr>
              <a:t>Real numbers and Integ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PH" sz="2800" spc="-1" strike="noStrike">
                <a:solidFill>
                  <a:srgbClr val="000000"/>
                </a:solidFill>
                <a:latin typeface="Constantia"/>
              </a:rPr>
              <a:t>Trigonometr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Constantia"/>
              </a:rPr>
              <a:t>Geometr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Constantia"/>
              </a:rPr>
              <a:t>Problem solving and exercis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4" descr="F:\images.jpg"/>
          <p:cNvPicPr/>
          <p:nvPr/>
        </p:nvPicPr>
        <p:blipFill>
          <a:blip r:embed="rId3"/>
          <a:stretch/>
        </p:blipFill>
        <p:spPr>
          <a:xfrm>
            <a:off x="762120" y="4470480"/>
            <a:ext cx="36576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6" descr="F:\english.jpg"/>
          <p:cNvPicPr/>
          <p:nvPr/>
        </p:nvPicPr>
        <p:blipFill>
          <a:blip r:embed="rId1"/>
          <a:stretch/>
        </p:blipFill>
        <p:spPr>
          <a:xfrm>
            <a:off x="152280" y="4762440"/>
            <a:ext cx="3886200" cy="2095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F:\learning-english.jpg"/>
          <p:cNvPicPr/>
          <p:nvPr/>
        </p:nvPicPr>
        <p:blipFill>
          <a:blip r:embed="rId2"/>
          <a:stretch/>
        </p:blipFill>
        <p:spPr>
          <a:xfrm>
            <a:off x="4495680" y="3276720"/>
            <a:ext cx="4876920" cy="375264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5000" spc="-1" strike="noStrike">
                <a:solidFill>
                  <a:srgbClr val="04617b"/>
                </a:solidFill>
                <a:latin typeface="Last Ninja"/>
              </a:rPr>
              <a:t>Englis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PH" sz="3200" spc="-1" strike="noStrike">
                <a:solidFill>
                  <a:srgbClr val="000000"/>
                </a:solidFill>
                <a:latin typeface="Constantia"/>
              </a:rPr>
              <a:t>Gramma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PH" sz="3200" spc="-1" strike="noStrike">
                <a:solidFill>
                  <a:srgbClr val="000000"/>
                </a:solidFill>
                <a:latin typeface="Constantia"/>
              </a:rPr>
              <a:t>Parts of Speech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PH" sz="3200" spc="-1" strike="noStrike">
                <a:solidFill>
                  <a:srgbClr val="000000"/>
                </a:solidFill>
                <a:latin typeface="Constantia"/>
              </a:rPr>
              <a:t>Sentence construc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PH" sz="3200" spc="-1" strike="noStrike">
                <a:solidFill>
                  <a:srgbClr val="000000"/>
                </a:solidFill>
                <a:latin typeface="Constantia"/>
              </a:rPr>
              <a:t>Poetr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PH" sz="3200" spc="-1" strike="noStrike">
                <a:solidFill>
                  <a:srgbClr val="000000"/>
                </a:solidFill>
                <a:latin typeface="Constantia"/>
              </a:rPr>
              <a:t>Oral Communica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5" descr="F:\we-love-english2.jpg"/>
          <p:cNvPicPr/>
          <p:nvPr/>
        </p:nvPicPr>
        <p:blipFill>
          <a:blip r:embed="rId3"/>
          <a:stretch/>
        </p:blipFill>
        <p:spPr>
          <a:xfrm>
            <a:off x="6508800" y="685800"/>
            <a:ext cx="256212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5000" spc="-1" strike="noStrike">
                <a:solidFill>
                  <a:srgbClr val="04617b"/>
                </a:solidFill>
                <a:latin typeface="Last Ninja"/>
              </a:rPr>
              <a:t>Histo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PH" sz="3200" spc="-1" strike="noStrike">
                <a:solidFill>
                  <a:srgbClr val="000000"/>
                </a:solidFill>
                <a:latin typeface="Constantia"/>
              </a:rPr>
              <a:t>Provinces of the Philippin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PH" sz="3200" spc="-1" strike="noStrike">
                <a:solidFill>
                  <a:srgbClr val="000000"/>
                </a:solidFill>
                <a:latin typeface="Constantia"/>
              </a:rPr>
              <a:t>Ethnic Groups in the Philippin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PH" sz="3200" spc="-1" strike="noStrike">
                <a:solidFill>
                  <a:srgbClr val="000000"/>
                </a:solidFill>
                <a:latin typeface="Constantia"/>
              </a:rPr>
              <a:t>Revolution Era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PH" sz="3200" spc="-1" strike="noStrike">
                <a:solidFill>
                  <a:srgbClr val="000000"/>
                </a:solidFill>
                <a:latin typeface="Constantia"/>
              </a:rPr>
              <a:t>National Hero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6477120" y="47242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2"/>
          <a:stretch/>
        </p:blipFill>
        <p:spPr>
          <a:xfrm>
            <a:off x="685800" y="4267080"/>
            <a:ext cx="41148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619760" cy="6095880"/>
          </a:xfrm>
          <a:prstGeom prst="rect">
            <a:avLst/>
          </a:prstGeom>
          <a:ln w="0">
            <a:noFill/>
          </a:ln>
        </p:spPr>
      </p:pic>
      <p:pic>
        <p:nvPicPr>
          <p:cNvPr id="225" name="Title 3" descr=""/>
          <p:cNvPicPr/>
          <p:nvPr/>
        </p:nvPicPr>
        <p:blipFill>
          <a:blip r:embed="rId2"/>
          <a:stretch/>
        </p:blipFill>
        <p:spPr>
          <a:xfrm>
            <a:off x="407880" y="1371600"/>
            <a:ext cx="8955360" cy="25909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Last Ninja"/>
              </a:rPr>
              <a:t>In focus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tikFont1"/>
              </a:rPr>
              <a:t>Summary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-5544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Vintage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intage"/>
              </a:rPr>
              <a:t>Origins of life, evolution and biodiversit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Vintage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intage"/>
              </a:rPr>
              <a:t>Cell structure and function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Vintage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intage"/>
              </a:rPr>
              <a:t>Heredity and reproduc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Vintage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intage"/>
              </a:rPr>
              <a:t>Development, growth and reproduc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Vintage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intage"/>
              </a:rPr>
              <a:t>Homeostasis of living system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Vintage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intage"/>
              </a:rPr>
              <a:t>The dynamics of ecosystem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ast Ninja"/>
              </a:rPr>
              <a:t>I. Origins of life, evolution and biodivers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ast Ninj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90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ing Blocks of Lif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90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Methods and Skill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90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y Apparatu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90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st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3" marL="941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94140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94140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 rot="19171800">
            <a:off x="5238360" y="3641760"/>
            <a:ext cx="4152960" cy="3114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"/>
          <p:cNvPicPr/>
          <p:nvPr/>
        </p:nvPicPr>
        <p:blipFill>
          <a:blip r:embed="rId2"/>
          <a:stretch/>
        </p:blipFill>
        <p:spPr>
          <a:xfrm>
            <a:off x="2009880" y="4724280"/>
            <a:ext cx="289548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C:\Users\NEO\AppData\Local\Microsoft\Windows\Temporary Internet Files\t059292a.bmp"/>
          <p:cNvPicPr/>
          <p:nvPr/>
        </p:nvPicPr>
        <p:blipFill>
          <a:blip r:embed="rId1"/>
          <a:stretch/>
        </p:blipFill>
        <p:spPr>
          <a:xfrm>
            <a:off x="5638680" y="3124080"/>
            <a:ext cx="4038840" cy="3429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5335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ast Ninja"/>
              </a:rPr>
              <a:t>II. Cell structure and functio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90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s and Functions of a Cell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90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ies of a Cell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90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ts and Animal Cell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2T16:14:01Z</dcterms:created>
  <dc:creator>NEO</dc:creator>
  <dc:description/>
  <dc:language>en-US</dc:language>
  <cp:lastModifiedBy>Asus</cp:lastModifiedBy>
  <dcterms:modified xsi:type="dcterms:W3CDTF">2011-10-03T06:38:24Z</dcterms:modified>
  <cp:revision>21</cp:revision>
  <dc:subject/>
  <dc:title>PowerPoint Presentation</dc:title>
</cp:coreProperties>
</file>